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DCE8-EC76-41F7-8FE6-A3F7E4474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6FA9-D768-4932-A299-8773E001E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3B27-BCFB-4925-A705-4AF8D45A7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F66-053E-496C-936B-E8C25B0B8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62E8-D29D-4F2E-8ADE-D66F8EC7C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607A-A8FA-40F9-98B6-66F9AF547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690C-CF17-4BFF-9580-89D3F5DB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FDDB-85EB-4F05-8B06-39E0E5360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6601-08E2-4BD0-A917-E4BAE8C9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53FD-9598-4065-B5DB-8E3AF4C8E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25C1-4769-4F94-8F74-B1D6E55F8F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4619-565F-43E1-B899-94E412F6F2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9C050-BE43-4C96-AE84-6C77048338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BA80-63C7-45FE-9C72-590AE8BED5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3220F-9FE2-42D7-8654-7B05C48D2B1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A81A-0E59-4F3B-9B2D-B0013BC34D0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E4EB-5F74-40B5-AB27-8E151BA32B8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D471B-CFA1-45CF-8DFA-BA209B57BEF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AA98-9564-40A2-BA6F-BB1794AD9D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26AFE-C5D9-48F5-AED8-EC01607CA81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752D2-7DDD-4F71-B033-120BCABF3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4584-409D-4EB5-97F3-17C416D0034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ADBD9-602A-40BE-9DDA-9D3DB63C16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15618-6D10-46D5-8DD7-A8D0DAD467B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FB327-2B0A-4580-ABB9-61F7F9DC9F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EB52F-85E8-4246-A6F7-358F0B55DC4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94367-BDD0-45D0-99D9-DA5A9D68C5D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D7010-A630-4F27-AB1A-542E640E3FB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6795E-CE46-4178-87F6-C277755D3A5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81CB8-C6E4-4FBE-89C2-87269D5DBB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1BF05-CB24-444D-BBBF-AA41553FD7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166D2-132D-46FB-AA9B-91B98E8A9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CC04-2BCD-4ADA-B277-C69350786C3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D9F6E-F02C-45CF-B317-68835C615A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10897C-92DC-4E26-B560-F13A4427DF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D584AD-342B-448B-A9B8-6624AF8528C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5EAEFD-4ED5-41A5-A332-F7935EE552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A4EF74-312D-4E8C-998E-A3683440FC2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25A301-C188-4EBC-862F-85E41EDF6C1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B15576-92DB-4C86-A6FA-F354AFF97B9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1A598E-E66F-4578-BBB6-AC3FBF4F3B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C672AC-84BE-4D40-A1CF-0B8FC8E513B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A9A5B9-A886-4296-B00E-61AB4CB0E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901-4F83-4CB0-97C8-B67D584EA0F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EA0F63-F69C-46B6-9471-25FF889D9DE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0AA77C-C034-4CCE-9C76-A5E07FDF72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65F0FF-F857-4301-80D2-C8EBF23D7E6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96A4F-57A4-4C87-816D-FC2CBE20CED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11DF-AD96-486B-9685-4853319165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F6672-0C93-41D9-B8F9-8C124B0BE7E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F2EE0-F268-4BD2-A4D1-5C79AE29324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C7A25-49AD-4811-9043-2610C67CDD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F1692-17DC-4A5B-BF31-AEC778CF2FC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F3F3-9F8D-44ED-B54A-E1E9147DA8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96E-53CC-4CA9-A460-DB1DF048226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972EB-D022-4482-81E5-2F52F0B976F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A45E-386E-4B67-8DBC-B075282EECD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491E1-79AC-49C1-AFC1-79C4FDA52B4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C38CB-4B52-4362-AD33-A25B660AEBD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900D3-B4D3-4334-8EFB-BD393124877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0B6-D1D1-42B5-A995-5491DA98980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0EE-F59A-4ACD-8121-C7288BA0D95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1AABD-7E34-462C-9DE0-145CB4032F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CF7-AD93-4726-85F5-4E0EF7098E9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FB6A5-C2A0-468B-8CEB-D057AC53EC7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9D164-A6E1-409A-8C35-1B22BFCCCC2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2F63D-2E41-4B07-8856-F2D13114EEF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9FEFC-B5FA-45AD-AE8A-81E03DFAABB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88B6AB-CBCC-44E1-8338-A2BA27FCB3E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6A5933-8A55-43E2-9373-3ABC59D97D5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F3D54-0039-4028-879F-7FF65D4419A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41BAF-EE11-4167-8F23-EBF21603D23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7A51B2-3A7F-4669-8D84-599D225DCF9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78E176-F2F3-45FC-A392-BE4BA79CD9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012-8D71-4B53-92BB-DA6EEAFCDE4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66FA1C-3398-4985-9EEB-C8C137D4C99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9D591-6C46-44C0-8910-ACA0D5DAA4C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1BD99-2091-45FA-9A02-C5EF8B86ADD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9B003-EFA9-46EB-9689-77B4200CB8F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78443-B3F3-4FAE-B713-2BC222888C3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B4FA2-B5BD-43ED-A861-0EFFD7C38CB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39EE1-C64F-491A-9AAB-0E6A55783C1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E796A-53C9-4F2F-AA66-7A7D4E69EC4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A1CB9-9956-46A8-9821-1E7CBB8930C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83028-4CF6-4EAA-A03D-A2C43F5EE0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E55-3BBF-432B-A9DF-38C3C3D84AF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668CD-81EC-4A30-AB33-1D90A984DE8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A2C61-9B7D-4323-B24F-4F35E89CA63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0E703-D708-42CB-8618-E7503A7738B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4920C-4BDC-4589-A909-83C5ABC2FF1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2B6DB-4A93-4523-9206-6898FDEDFCE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BE0AC-7850-4120-9463-D9A2FDD4BDF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34B15-99B0-4ED5-A71E-A66418A58BD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F41F4-F1AC-4391-A716-06EAF6A51ED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0F10D-5875-4295-95D9-2C639AA5B15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1F9B1-47C3-4C5A-AA07-C1DA536CC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4905-28A7-473A-9535-57CA0F81F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514-2CD4-45B0-8DFC-DA283DD647F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E5A0E-6142-4860-B536-F6D6F3CD0FC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6BC14-EC5C-4478-8E0A-AEC3C1F77F9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CC7E8-3420-4B9B-9CB9-F411BF7BEF3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E9A9C-BF16-4F46-AA3E-C86F0D97850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5A6E8-92D0-4435-9022-3F44E19C6A3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F2E06E-E386-4D6E-A72B-39BDCFE2498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DD8AD8-6F22-4261-A311-19152240FDC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A8E150-E9E1-4193-9074-A7758DD3DBE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491C7A-4BA5-4D8C-BF6E-42C41A6E0CC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3DB9E1-657C-46EC-8A6C-BDE1DF654A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9FC-33F3-403A-AF31-58C3F734F56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9C4151-2FBB-45B3-8279-795D5E7DDCD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473DAB-17FA-43A6-ADDB-C313199EF5F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D79563-C60A-4776-942E-74A64546431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642C4A-F770-41EA-8C61-998E90052B2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BF5588-4248-4119-9416-2D9C96D8891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4D0353-05C5-4829-A190-027EBF26709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DE329E-2948-498D-B37D-6546B458426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1BE6ED-EA30-4B99-8D0E-34D7F2B506A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AF376B-90FB-4118-A3A5-0047729929D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6B2308-E725-4AA4-9AA8-2142C8BA88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F88-6EC0-420A-A522-DE22F9B4517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B70DEB-D20B-46A6-8B18-7BA7519033D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84FEA5-B579-4084-AE19-F222F7A8C63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2EFCDE-A6CE-4C36-8ADF-74D5998CDFB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D5CAD5-55ED-467B-8F56-3EA31F60B1B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45205D-53C4-4D9B-8A5E-CBCC019641B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64D306-5C6C-40CA-BBBE-33E375DB73C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4EF40F-6A52-412E-99B7-3A406ABAE62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19EDD6-6CA6-487C-9C87-1FC8509A2AE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F18335-BC27-4437-B715-1E72C476DEC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96C8D-6B7D-44FA-801A-5FB1133737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E60-F4DC-4E78-9613-312BFD26E8B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297B3-876B-408C-9159-D95B5D102A1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C6C7F-7337-4BB3-B6BA-EB6A6340B18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33AE4-6AF7-4D0F-A921-D4D426C01FF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17590-36F9-4BEC-B6B1-A89E12AA7A8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FC3DB-2CDB-4E4A-BB31-30ACA4A12F1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E7592-D1D6-4528-8A86-45597C832E9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C3363-9D71-4F0A-A9EC-2980FE24EC8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82009-0607-468D-B5AF-40A0CD2F83F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890A3-2701-4127-A4EE-E2AE4E09BBE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9F7BB-B313-4D06-9B2F-6F85C2047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D96-085F-49DB-AF33-3B936567A8F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12EE1-E437-48FD-9B8F-A4712C3D21A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8A0473-5DF5-44B8-A7A7-95B6A48AC69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0D0DE2-50BF-461C-A159-9F49DECCFD7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BC95DB-C7D3-4B9A-A75A-FDE203F70AF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35D0F3-4F45-4BD4-A95B-63F8E7C5A3F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0246BB-3A5E-4846-A94E-F2692EAE1A3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564AB9-D7A1-4052-B6B0-0CCED526ACE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92A779-3CA2-4050-BF8F-86E4C72C5D8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FD5F2D-B2A2-4F08-85DE-1C34C904A77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054F22-4350-4B00-987B-F4A67C5A89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B42D8A-2EC7-4020-ADA3-FF11B4FD44C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65F6C9-A80C-460B-853D-2F7B1FDDEA7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459960-E830-4A3A-9AB7-8BBB4E0D29E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60B8D7-8134-43BE-AE43-B530E79FD32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0A8513-65B0-4B73-87FF-8EA8F4C03D7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8DBB14-BE6C-48FD-BEBF-910B09046D8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0F20FA-F293-44E2-97F8-CEDC8B902DB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AB81AA-62E5-4D56-B8D0-1F35EFA0AE0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6C1D7F-FCD1-4855-9C63-329363B33D1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F4A4B6-713D-418C-926A-79AB22F8AC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270C68-DF50-4B43-BF6F-3446CFD7604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0954CF-144D-46B6-AE61-04164F945A1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2CA780-5E10-4E4F-9188-4A756E83BD0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2C380A-F0E8-44B4-8C2A-D48DCBC36AE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BEB4CA-C774-4D2B-831B-2690DD5B6FC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6829E-BBA8-4D65-9B14-F24007E1F9D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10ABC-70B2-4DD1-969D-1A429F69E5E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011AD-5285-4983-AF50-867077238E1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6E847-C984-4539-B6F1-75FD195D773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546DB-0CD2-4F37-AB04-CBF5A5268A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63E5C-3174-4B67-BA87-AA3A8098F7C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54CDA-88BC-40E0-A396-D41947B9E5B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B4E4F-51B8-495D-8765-85D6D662D1E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3036A-8C70-4170-9719-05B44D2EB61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8050A-5CF6-43E0-8D6B-59B682BC194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5DE00-A641-4F0B-BCCF-DC897C2E58D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E750F-83FF-4B82-8D4E-4555ECE7E43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AF8D-D9B5-40C0-82CF-924AF8D3E5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94442E-7867-4C85-A2AA-82F29606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57A9D5-9E6C-4236-A5E1-D1F90EB0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2DA450-E15A-4002-942E-66062A11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BA98FC-E226-4E76-A80C-92351E51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452F95-ADE8-4A36-9957-3C448CB6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829E9E-89C9-4162-B5D2-0AC919ED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C9F33F-5C69-454E-A5C7-94C8CC1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70F22F-695B-43D2-BB0E-8A003F3A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A1F090-AE3B-487A-A463-B3BE577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4A9406-2A11-4625-B6A4-7020DF9C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28DDF4-4C54-4EE6-B8F2-DEE4C94D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000FD3-06F2-4479-A23D-26B0A011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184CF2-7CDF-4613-AFE2-8F41FE8B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FA9B19-6FA7-4DAD-AD7E-C2446F66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02A3B9-4DB4-4173-B8CA-0FBF806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376FE3-7612-4F0A-85E0-DC08E8A5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7FFCD1-8401-40CE-8EA5-17F52D97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CC39F1-2F26-404F-ACEB-27A40567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DDCDDD-C8DC-4984-95FF-9250D740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DC55BA-FA8A-4C06-9970-B559709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1F728D-F8EE-4AB5-B77F-78C4206E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AA694D-E9F0-4B62-BF2D-0335517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AA94C6-0BFF-4E68-A16D-4518060E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076AB6-A483-483A-B27C-9F79D8BC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D64C5-2E82-4D65-AF65-684E1F0448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F4126-F074-4AB0-B1C5-322241026A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805E9-6349-452D-AC96-1EBF2A1A1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0E42-F18D-4A41-9640-90EF277010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DA913-F461-4A8B-9AC5-D69FE7859E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DB648-D237-4934-8F09-4B3B08673E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AA075-D227-4A59-92F6-034C71379E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CB198-BE9E-48AA-87E8-8FEA2BA2C2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C5B05-E132-4EB8-A7B0-61A0CFC2EE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79075-00C0-457F-B3B5-922B1EC34F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3AD95-709A-45A3-9760-03BE3965E2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FE8FC-3C77-4A30-97E2-C28341AE47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66022-9D12-4ADE-B147-7552906450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6D2B4-2BC9-4A04-8A7D-FD734BCA4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202D-2DCB-47BA-8C43-E5E3F4BC30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9C457-1951-4B48-909D-72AB207D42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2485D-80CB-4014-97F3-968475D55D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CFF1A-2873-4A50-BAE7-FA7A8724BB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33B6F-08F9-4462-AE84-A379FBCFFE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79AF68-2C6A-4450-8A02-7AF67F5DAA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DF502-3C7D-4379-9500-31B14FD770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CC1F6A-D556-44E2-B01F-85FC678F03F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11BDA-1AE1-4AB8-82BF-4CF0D93ED4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85FE5-12CA-4C24-993E-6C49BEC9F2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FF3C7-8D22-479F-A47B-E05F426F5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4BDF-55B2-4FAF-98FE-CF8CD6F6595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BD088-CFA8-422A-8D2A-10857FA273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6ADD-5D3D-484D-A0C7-0615E1F7C2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2AEF-C613-4AE1-B4B7-B5D6380BC6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2ED8-EE79-4DB3-BDE6-079471574E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5DB1-681A-4E88-A1B6-4B07469C9B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EFE8-64D5-472A-877A-A394F51A048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E8D9-89DF-4163-8B2C-5343CFBD405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252B-CD95-4595-9369-102F99A3A3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84B0-418C-4AB0-A5B6-E12B2154D8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502C-75AE-44C6-A8A5-81A0CE596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4E5B-5959-4DE7-856B-A94099A437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9691-D404-4EB9-B20E-BE27E6BB17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D42B2-DE34-426B-99B8-1DF3B3BB5F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EA40-C8D8-47E9-9A6D-E279E31D69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6E3F5-9B46-4BB0-8FBF-97803FDE59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9BCA4-1239-4D6C-BAB8-08335AD130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30E04-79D9-4286-8AA3-4645A3BB6E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875C5-B5FC-48AC-8E91-DFF1F7435C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2265A-D45C-4A60-90FA-52FCD6E6F8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54085-EE9C-4E01-907B-7BF5DA35FD8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A29AA-4169-4AD7-A766-A376DDB12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B630-8F20-4707-81D0-7EA4C943EE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CB132-9894-4135-B666-7113AC88BC2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4F8B8-F1D0-4C25-A916-A05D508D902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03946-8F6B-43CA-B036-9B70DA6FD7D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D841C-D404-4E5F-8F4E-618B64BD11F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4AFB6-533A-4F3E-8840-0E6E374D80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844911-6769-4DFD-9F88-1987917C0A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C9FEB-E6FE-47D7-98D3-BBC4CDE5D84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233529-7380-402D-B394-8254890552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7BF2AB-FE07-47E4-BD6B-113E2D8BCD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DDEA8-58B6-4DFB-A9AE-733C10536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6E2A-3E74-4AFD-BDA2-CE9EE782060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B3AA85-2CF0-4C5F-96DC-CCB8848E0FC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B9ABB-E697-4206-84B3-C52733501F1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B9DAA-867E-4A00-90FF-7F33C680435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AD8695-6D12-4B25-8346-5AA0E311CCB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849D0-A2DF-4390-B319-2C3EF468013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4E8D7D-5470-46F6-B36F-3024B5B9C67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0996F1-F131-4571-ADC7-EE579614465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FB456-FA37-4F53-BF3C-B9879250579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729A1-C0CD-4B9A-B665-7E59EEB9C0C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61D4F-3CFE-4B7F-AFC8-178CC4428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3" name="Picture 10" descr="icon_logo"/>
          <p:cNvPicPr/>
          <p:nvPr/>
        </p:nvPicPr>
        <p:blipFill>
          <a:blip r:embed="rId4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B65D-2D7D-4721-A6A2-7C28ECA73D2E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00D6-C3D2-4384-8342-96D9D3502809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1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6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BD89-50F9-4583-8AD8-3878B40EBD1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512" name="Picture 12" descr="_0013_14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D399-BB21-47F1-96AB-B822A4E8FBDF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633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635" name="Picture 9" descr="_0010_11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A069-D9E9-4D90-A7D8-F2232F84F599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2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680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682" name="Picture 9" descr="_0011_12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2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D4F3-1C5F-4A5D-91D9-03B6D8C03095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2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27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729" name="Freeform 9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11" descr="_0014_15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Num" idx="2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F8EE-3C58-4BE5-B282-DC36A3C04FCB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7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776" name="Picture 9" descr="_0009_10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4D6F-EF55-467D-BB4E-24A00D0A0839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3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2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823" name="Picture 9" descr="_0012_13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sldNum" idx="3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2C94-F8DE-41A6-A9B7-242B068E11B2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32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4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B35A-684B-46EC-AEC4-9AF1A2A7593D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6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3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CEF2-49F8-43FF-A2BE-BC4A944EF355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3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C75-CEF1-4B15-BCAF-B102F88AB25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5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31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956" name="Picture 9" descr="_0015_16.jpg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Freeform 21"/>
            <p:cNvSpPr/>
            <p:nvPr/>
          </p:nvSpPr>
          <p:spPr>
            <a:xfrm>
              <a:off x="137160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Num" idx="3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FBDB-0729-43EB-905C-8ECF37AF9C59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00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003" name="Picture 9" descr="_0013_14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sldNum" idx="3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D8B6-F82D-4397-85FE-5604741F9E08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4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12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12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12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4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4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4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5B2C-7BB0-4812-8DCE-3E50D4A04D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17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17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PlaceHolder 1"/>
          <p:cNvSpPr>
            <a:spLocks noGrp="1"/>
          </p:cNvSpPr>
          <p:nvPr>
            <p:ph type="dt" idx="4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ftr" idx="4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sldNum" idx="4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871-2E0D-4341-8A5E-EC205A1486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132" name="Picture 12" descr="_0010_11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7471-DC08-42AB-9600-521DFE05E8A5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81" name="Picture 12" descr="_0011_12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4CCC-A2C6-4EDC-8E18-3DB8672A5896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230" name="Freeform 12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13" descr="_0014_15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3781-5FF5-468F-9191-D5B5DB181E94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279" name="Picture 12" descr="_0009_10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59E7-46BA-4EB2-A2DA-3A47D500933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328" name="Picture 12" descr="_0012_13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9877-D666-455B-B714-5EAD4A797865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7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F379-A626-4042-BC5F-BE26BCBEFEB6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cing History and Ourselves,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Common Core,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and Writing Assess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view of the Common Core Stand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do we think we see intersection between the CCSI and Facing Histor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Boston Public Schools’ Common Writing Assig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t pilot work, talking through next ste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hor Standards v. Grade Specific Standar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-Anchor Standards are overarching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-Grade-specific tailors to the standard for that particular grade contex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49ED-0889-4891-879A-8B004D189E55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Grade-Level Progression in Re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CR Reading Standard 3: Analyze how and why individuals, events, and ideas develop and interact over the course of a text.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281" name=""/>
          <p:cNvGraphicFramePr/>
          <p:nvPr/>
        </p:nvGraphicFramePr>
        <p:xfrm>
          <a:off x="457200" y="2438280"/>
          <a:ext cx="8229600" cy="3632400"/>
        </p:xfrm>
        <a:graphic>
          <a:graphicData uri="http://schemas.openxmlformats.org/drawingml/2006/table">
            <a:tbl>
              <a:tblPr/>
              <a:tblGrid>
                <a:gridCol w="3809880"/>
                <a:gridCol w="381240"/>
                <a:gridCol w="403848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  <a:ea typeface="Geneva"/>
                        </a:rPr>
                        <a:t>Reading Standards for Lit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  <a:ea typeface="Geneva"/>
                        </a:rPr>
                        <a:t>Reading Standards for Informational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Describe characters in a story (e.g., their traits, motivations, or feelings) and explain how their actions contribute to the sequence of ev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Describe the relationships between a series of historical events, scientific ideas of concepts, or steps in technical procedures in a text, using language that pertains to time, sequence, and cause/effe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7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how particular elements of a story or drama interact (e.g., how setting shapes the characters or pl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7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the interactions between individuals, events, and ideas in a text (e.g., how ideas influence individuals or events, or how individuals influence ideas or events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Evaluate various explanations for characters’ actions or for events and determine which explanation best accords with textual evidence, acknowledging where the text leaves matters uncert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a complex set of ideas or sequence of events and explain how specific individuals, ideas, or events interact and develop over the course of the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</a:tbl>
          </a:graphicData>
        </a:graphic>
      </p:graphicFrame>
      <p:sp>
        <p:nvSpPr>
          <p:cNvPr id="1282" name="Down Arrow 5"/>
          <p:cNvSpPr/>
          <p:nvPr/>
        </p:nvSpPr>
        <p:spPr>
          <a:xfrm>
            <a:off x="4343400" y="2438280"/>
            <a:ext cx="228600" cy="3353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50A3-A7D8-4CE0-9088-A4A3EEFD66CE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e-Level Prog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5720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mat highlights progression of standards across grade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1286" name="Picture 6" descr="Reading Kil.JPG"/>
          <p:cNvPicPr/>
          <p:nvPr/>
        </p:nvPicPr>
        <p:blipFill>
          <a:blip r:embed="rId1"/>
          <a:stretch/>
        </p:blipFill>
        <p:spPr>
          <a:xfrm>
            <a:off x="457200" y="2050920"/>
            <a:ext cx="8153280" cy="405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down of Writing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Writing Standards have three main parts: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1-3 Writing Typ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4-6 Production and Distribution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7-9 Engaging in research and writing about sourc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10- Writing routinely in several format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aking and Listening Breakdow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tandards 1-3: 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omprehension and Collaboration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day to day, purposeful, academic talk in one to one, 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mall group and large group settings”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tandards 4-6: 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Presentation of Knowledge and Idea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mal, often using technology”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uage Breakdow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Standards 1-3:   Knowledge of Language</a:t>
            </a:r>
            <a:endParaRPr b="1" lang="en-US" sz="20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Standards 4-6: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 Vocabulary Development</a:t>
            </a:r>
            <a:endParaRPr b="1" lang="en-US" sz="20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-General Academic and Domain specific</a:t>
            </a:r>
            <a:endParaRPr b="1" lang="en-US" sz="20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1b2"/>
                </a:solidFill>
                <a:latin typeface="Arial"/>
              </a:rPr>
              <a:t>-brick and mortar words</a:t>
            </a: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8630-6F2E-4CD2-9084-DC970258F983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Standards f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457200" y="160020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nowledg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alyze, evaluate, and differentiate primary and secondary sour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ynthesize quantitative and technical information, including facts presented in maps, timelines, flowcharts, or diagram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Write arguments on discipline-specific content and informative/explanatory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ata, evidence, and reason to support arguments and claim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ote from our spons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Standards are essential, but inadequate. Along with standards,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91b2"/>
              </a:solidFill>
              <a:latin typeface="Arial"/>
            </a:endParaRPr>
          </a:p>
          <a:p>
            <a:pPr lvl="2" marL="914400" indent="177840">
              <a:spcBef>
                <a:spcPts val="499"/>
              </a:spcBef>
              <a:buClr>
                <a:srgbClr val="6b6b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Educators must be given </a:t>
            </a: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resources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tools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, and </a:t>
            </a: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time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 to adjust classroom practice.</a:t>
            </a:r>
            <a:endParaRPr b="0" lang="en-US" sz="21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177840">
              <a:spcBef>
                <a:spcPts val="499"/>
              </a:spcBef>
              <a:buClr>
                <a:srgbClr val="6b6b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Instructional materials 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needed that align to the standards.</a:t>
            </a:r>
            <a:endParaRPr b="0" lang="en-US" sz="21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177840">
              <a:spcBef>
                <a:spcPts val="499"/>
              </a:spcBef>
              <a:buClr>
                <a:srgbClr val="6b6b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6b6b6b"/>
                </a:solidFill>
                <a:latin typeface="Arial"/>
              </a:rPr>
              <a:t>Assessments</a:t>
            </a:r>
            <a:r>
              <a:rPr b="1" lang="en-US" sz="2100" spc="-1" strike="noStrike">
                <a:solidFill>
                  <a:srgbClr val="6b6b6b"/>
                </a:solidFill>
                <a:latin typeface="Arial"/>
              </a:rPr>
              <a:t> must be developed to measure student progress.</a:t>
            </a:r>
            <a:endParaRPr b="0" lang="en-US" sz="21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6b6b6b"/>
              </a:solidFill>
              <a:latin typeface="Arial"/>
            </a:endParaRPr>
          </a:p>
          <a:p>
            <a:pPr lvl="2" marL="914400" indent="177840">
              <a:spcBef>
                <a:spcPts val="499"/>
              </a:spcBef>
              <a:buClr>
                <a:srgbClr val="6b6b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Federal, state, and district </a:t>
            </a:r>
            <a:r>
              <a:rPr b="0" i="1" lang="en-US" sz="2100" spc="-1" strike="noStrike">
                <a:solidFill>
                  <a:srgbClr val="6b6b6b"/>
                </a:solidFill>
                <a:latin typeface="Arial"/>
              </a:rPr>
              <a:t>policies</a:t>
            </a:r>
            <a:r>
              <a:rPr b="0" lang="en-US" sz="2100" spc="-1" strike="noStrike">
                <a:solidFill>
                  <a:srgbClr val="6b6b6b"/>
                </a:solidFill>
                <a:latin typeface="Arial"/>
              </a:rPr>
              <a:t> will need to be reexamined to ensure they support alignment of the common core state standards with student achievement.</a:t>
            </a:r>
            <a:endParaRPr b="0" lang="en-US" sz="2100" spc="-1" strike="noStrike">
              <a:solidFill>
                <a:srgbClr val="6b6b6b"/>
              </a:solidFill>
              <a:latin typeface="Arial"/>
            </a:endParaRPr>
          </a:p>
          <a:p>
            <a:pPr marL="343080" indent="0">
              <a:spcBef>
                <a:spcPts val="236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a FH viewpoint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The standards are missing many skills that we deem important, such as: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Where is civic education in the discussion? They talk about college and career readiness---what about civic engagement? Education to create an informed citizenry?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Reflective writing as an important writing type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Moral philosophy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Information gathered from: 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Achieve 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Common Core Webinar (from link on http://www.corestandards.org/)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-W-L minus the 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do you know or already think you know about the standard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do you want to lear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siting Facing History and the Common Co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Think back to the four strands: 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Reading, Writing, Speaking and Listening, and Language. 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Now that you know a bit more about each strand, where do you predict that Facing History is already meeting some of these standards?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Where do you expect there to be gaps between Facing History and the standards?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BPS Common Writing Assignment (CWA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ative ques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nswered using only historical evidence from the investig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icits multiple “right” answ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vers a range of material from the un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aging fo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ible (How easy/difficult is it for me to answer this promp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king at Promp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o you strongly agree, agree, disagree or strongly disagree with the following statemen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ever doubt that a small group of thoughtful, committed citizens can change the world. Indeed, it is the only thing that ever ha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vents in Little Rock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ppor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rgaret Mead’s sta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sis brainst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three possible thesis statements based on this prom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 to write one of e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ak – doesn’t address prompt, can’t be defended with evidence from the u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 – addresses prompt, can be defend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ellent – more complex, sophisticated than a good the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sis sorting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e slips into these categor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ak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oesn’t address prompt, can’t be defended with evidence from the u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ddresses prompt, can be defend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cell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more complex and sophisticated than a good the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l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you take away from doing this activity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those of you who prefer a more specific promp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is thesis-statement-writing relevant to Facing History’s mission and your work with teachers, if at all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you rewrite your original “good” or “excellent” thesis statements now? How have your ideas about what makes a good thesis changed as a result of this activity, if at all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questions are most on your mind now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-specific questions (about the CWA and work with B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zational (about Facing History’s work with Common Core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10" descr="_0005_6.jpg"/>
          <p:cNvPicPr/>
          <p:nvPr/>
        </p:nvPicPr>
        <p:blipFill>
          <a:blip r:embed="rId1"/>
          <a:stretch/>
        </p:blipFill>
        <p:spPr>
          <a:xfrm>
            <a:off x="-176040" y="-4366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8" name="Group 38"/>
          <p:cNvGrpSpPr/>
          <p:nvPr/>
        </p:nvGrpSpPr>
        <p:grpSpPr>
          <a:xfrm>
            <a:off x="-176040" y="-388800"/>
            <a:ext cx="9153000" cy="6886800"/>
            <a:chOff x="-176040" y="-388800"/>
            <a:chExt cx="9153000" cy="6886800"/>
          </a:xfrm>
        </p:grpSpPr>
        <p:sp>
          <p:nvSpPr>
            <p:cNvPr id="1229" name="Freeform 39"/>
            <p:cNvSpPr/>
            <p:nvPr/>
          </p:nvSpPr>
          <p:spPr>
            <a:xfrm>
              <a:off x="782640" y="-4320"/>
              <a:ext cx="8191440" cy="6502320"/>
            </a:xfrm>
            <a:custGeom>
              <a:avLst/>
              <a:gdLst>
                <a:gd name="textAreaLeft" fmla="*/ 0 w 8191440"/>
                <a:gd name="textAreaRight" fmla="*/ 8191800 w 819144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5"/>
            <p:cNvSpPr/>
            <p:nvPr/>
          </p:nvSpPr>
          <p:spPr>
            <a:xfrm>
              <a:off x="-176040" y="36158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6"/>
            <p:cNvSpPr/>
            <p:nvPr/>
          </p:nvSpPr>
          <p:spPr>
            <a:xfrm rot="10800000">
              <a:off x="8172360" y="-37620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2"/>
            <p:cNvSpPr/>
            <p:nvPr/>
          </p:nvSpPr>
          <p:spPr>
            <a:xfrm>
              <a:off x="103320" y="-388800"/>
              <a:ext cx="8852040" cy="5448240"/>
            </a:xfrm>
            <a:custGeom>
              <a:avLst/>
              <a:gdLst>
                <a:gd name="textAreaLeft" fmla="*/ 0 w 8852040"/>
                <a:gd name="textAreaRight" fmla="*/ 8852400 w 885204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Freeform 13"/>
          <p:cNvSpPr/>
          <p:nvPr/>
        </p:nvSpPr>
        <p:spPr>
          <a:xfrm>
            <a:off x="385920" y="-434880"/>
            <a:ext cx="8583480" cy="489420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200"/>
              <a:gd name="textAreaBottom" fmla="*/ 4894560 h 489420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8"/>
          <p:cNvSpPr/>
          <p:nvPr/>
        </p:nvSpPr>
        <p:spPr>
          <a:xfrm>
            <a:off x="3424320" y="2998800"/>
            <a:ext cx="55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 Introducti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on Core State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apt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44" descr="small_logo.jpg"/>
          <p:cNvPicPr/>
          <p:nvPr/>
        </p:nvPicPr>
        <p:blipFill>
          <a:blip r:embed="rId2"/>
          <a:stretch/>
        </p:blipFill>
        <p:spPr>
          <a:xfrm>
            <a:off x="5105520" y="4861080"/>
            <a:ext cx="2141280" cy="59976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14"/>
          <p:cNvSpPr/>
          <p:nvPr/>
        </p:nvSpPr>
        <p:spPr>
          <a:xfrm>
            <a:off x="4603680" y="5460840"/>
            <a:ext cx="4059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Core State Standards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48C1-97B5-48F2-A738-04C4C57B9A3F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Content Placeholder 1"/>
          <p:cNvSpPr/>
          <p:nvPr/>
        </p:nvSpPr>
        <p:spPr>
          <a:xfrm>
            <a:off x="838080" y="1828800"/>
            <a:ext cx="7467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Beginning in the spring of 2009, Governors and state commissioners of education from 48 states, 2 territories and the District of Columbia committed to developing a common core of state K-12 English-language arts (ELA) and mathematics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1d91b1"/>
                </a:solidFill>
                <a:latin typeface="Arial"/>
              </a:rPr>
              <a:t>Common Core State Standards Initiative (CCSSI)</a:t>
            </a: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 is a state-led effort coordinated by the National Governors Association (NGA) and the Council of Chief State School Officers (CCSS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63685"/>
                </a:solidFill>
                <a:uFillTx/>
                <a:latin typeface="Arial"/>
                <a:ea typeface="Geneva"/>
              </a:rPr>
              <a:t>www.corestandards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Common Core State Standar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173C-6A48-4C16-8A7A-C7F51F6A8E23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5"/>
          <p:cNvSpPr/>
          <p:nvPr/>
        </p:nvSpPr>
        <p:spPr>
          <a:xfrm>
            <a:off x="457200" y="1600200"/>
            <a:ext cx="822960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Prepara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college- and career-ready. They will help prepare students with the knowledge and skills they need to succeed in education and training after high schoo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mpeti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internationally benchmarked. Common standards will help ensure our students are globally competitiv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Equity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ations are consistent for all – and not dependent on a student’s zip cod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larity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are focused, coherent, and clear. Clearer standards help students (and parents and teachers) understand what is expected of th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llaboration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create a foundation to work collaboratively across states and districts, pooling resources and expertise, to create curricular tools, professional development, common assessments and other materi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teria for the standar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Fewer, clearer, and higher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Aligned with college and work expectations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Include rigorous content and application of knowledge through high-order skills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Build upon strengths and lessons of current state standards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Internationally benchmarked, so that all students are prepared to succeed in our global economy and society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1b2"/>
                </a:solidFill>
                <a:latin typeface="Arial"/>
              </a:rPr>
              <a:t>Based on evidence and research</a:t>
            </a: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87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DBD6-FCAF-4ADD-A0D4-71154E7CB8E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57200" y="144756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 example: Standards from individual high-performing countries and provinces were used to inform content, structure, and language. Writing teams looked for examples of rigor, coherence, and progression.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pSp>
        <p:nvGrpSpPr>
          <p:cNvPr id="1249" name="Group 6"/>
          <p:cNvGrpSpPr/>
          <p:nvPr/>
        </p:nvGrpSpPr>
        <p:grpSpPr>
          <a:xfrm>
            <a:off x="981000" y="2590920"/>
            <a:ext cx="7317000" cy="3555000"/>
            <a:chOff x="981000" y="2590920"/>
            <a:chExt cx="7317000" cy="3555000"/>
          </a:xfrm>
        </p:grpSpPr>
        <p:sp>
          <p:nvSpPr>
            <p:cNvPr id="1250" name="TextBox 7"/>
            <p:cNvSpPr/>
            <p:nvPr/>
          </p:nvSpPr>
          <p:spPr>
            <a:xfrm>
              <a:off x="981000" y="2590920"/>
              <a:ext cx="34387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Mathema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elgium (Flemish)</a:t>
              </a:r>
              <a:r>
                <a:rPr b="1" i="1" lang="en-US" sz="1700" spc="-1" strike="noStrike">
                  <a:solidFill>
                    <a:srgbClr val="6b6b6b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 (Albert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ese Taipe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nd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Jap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Ko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TextBox 8"/>
            <p:cNvSpPr/>
            <p:nvPr/>
          </p:nvSpPr>
          <p:spPr>
            <a:xfrm>
              <a:off x="4861080" y="2590920"/>
              <a:ext cx="34369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English language a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ustral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New South Wal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Victor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lbert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ritish Columb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Ontari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2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3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54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8"/>
          <p:cNvSpPr/>
          <p:nvPr/>
        </p:nvSpPr>
        <p:spPr>
          <a:xfrm>
            <a:off x="3581280" y="3352680"/>
            <a:ext cx="55436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Core State Standards for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glish Language Arts and Literacy in History/ Social Studies, Science, and Technical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9928-B136-42D9-97BE-1E0C0AB85BE7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Text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4"/>
          <p:cNvSpPr/>
          <p:nvPr/>
        </p:nvSpPr>
        <p:spPr>
          <a:xfrm>
            <a:off x="457200" y="1295280"/>
            <a:ext cx="8229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include over exemplar texts (stories and literature, poetry, and informational texts) that illustrate appropriate level of complexity by 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Text complexity is def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29"/>
          <p:cNvGrpSpPr/>
          <p:nvPr/>
        </p:nvGrpSpPr>
        <p:grpSpPr>
          <a:xfrm>
            <a:off x="457200" y="2971800"/>
            <a:ext cx="7428600" cy="2859120"/>
            <a:chOff x="457200" y="2971800"/>
            <a:chExt cx="7428600" cy="2859120"/>
          </a:xfrm>
        </p:grpSpPr>
        <p:grpSp>
          <p:nvGrpSpPr>
            <p:cNvPr id="1264" name="Group 28"/>
            <p:cNvGrpSpPr/>
            <p:nvPr/>
          </p:nvGrpSpPr>
          <p:grpSpPr>
            <a:xfrm>
              <a:off x="5801760" y="3097800"/>
              <a:ext cx="2084040" cy="2733120"/>
              <a:chOff x="5801760" y="3097800"/>
              <a:chExt cx="2084040" cy="2733120"/>
            </a:xfrm>
          </p:grpSpPr>
          <p:sp>
            <p:nvSpPr>
              <p:cNvPr id="1265" name="Isosceles Triangle 22"/>
              <p:cNvSpPr/>
              <p:nvPr/>
            </p:nvSpPr>
            <p:spPr>
              <a:xfrm rot="7297200">
                <a:off x="5472360" y="4084560"/>
                <a:ext cx="2742480" cy="7588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TextBox 18"/>
              <p:cNvSpPr/>
              <p:nvPr/>
            </p:nvSpPr>
            <p:spPr>
              <a:xfrm rot="17950800">
                <a:off x="5981040" y="419652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ualit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7" name="TextBox 25"/>
            <p:cNvSpPr/>
            <p:nvPr/>
          </p:nvSpPr>
          <p:spPr>
            <a:xfrm>
              <a:off x="457200" y="2971800"/>
              <a:ext cx="53442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litative measures – levels of meaning, structure, language conventionality and clarity, and knowledge deman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30"/>
          <p:cNvGrpSpPr/>
          <p:nvPr/>
        </p:nvGrpSpPr>
        <p:grpSpPr>
          <a:xfrm>
            <a:off x="457200" y="3091680"/>
            <a:ext cx="8228880" cy="2745000"/>
            <a:chOff x="457200" y="3091680"/>
            <a:chExt cx="8228880" cy="2745000"/>
          </a:xfrm>
        </p:grpSpPr>
        <p:sp>
          <p:nvSpPr>
            <p:cNvPr id="1269" name="Isosceles Triangle 23"/>
            <p:cNvSpPr/>
            <p:nvPr/>
          </p:nvSpPr>
          <p:spPr>
            <a:xfrm flipH="1" rot="14352600">
              <a:off x="6286320" y="4084560"/>
              <a:ext cx="2743200" cy="758880"/>
            </a:xfrm>
            <a:prstGeom prst="triangle">
              <a:avLst>
                <a:gd name="adj" fmla="val 50000"/>
              </a:avLst>
            </a:prstGeom>
            <a:solidFill>
              <a:srgbClr val="dd4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Box 19"/>
            <p:cNvSpPr/>
            <p:nvPr/>
          </p:nvSpPr>
          <p:spPr>
            <a:xfrm rot="3558000">
              <a:off x="7062120" y="41907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Box 26"/>
            <p:cNvSpPr/>
            <p:nvPr/>
          </p:nvSpPr>
          <p:spPr>
            <a:xfrm>
              <a:off x="457200" y="3893760"/>
              <a:ext cx="53442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ntitative measures – readability and other scores of text complex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Group 31"/>
          <p:cNvGrpSpPr/>
          <p:nvPr/>
        </p:nvGrpSpPr>
        <p:grpSpPr>
          <a:xfrm>
            <a:off x="457200" y="4559400"/>
            <a:ext cx="8229600" cy="970560"/>
            <a:chOff x="457200" y="4559400"/>
            <a:chExt cx="8229600" cy="970560"/>
          </a:xfrm>
        </p:grpSpPr>
        <p:sp>
          <p:nvSpPr>
            <p:cNvPr id="1273" name="Isosceles Triangle 21"/>
            <p:cNvSpPr/>
            <p:nvPr/>
          </p:nvSpPr>
          <p:spPr>
            <a:xfrm>
              <a:off x="5829480" y="4732920"/>
              <a:ext cx="2857320" cy="758880"/>
            </a:xfrm>
            <a:prstGeom prst="triangle">
              <a:avLst>
                <a:gd name="adj" fmla="val 50000"/>
              </a:avLst>
            </a:prstGeom>
            <a:solidFill>
              <a:srgbClr val="2e7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Box 20"/>
            <p:cNvSpPr/>
            <p:nvPr/>
          </p:nvSpPr>
          <p:spPr>
            <a:xfrm>
              <a:off x="6210360" y="51616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der and Ta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Box 27"/>
            <p:cNvSpPr/>
            <p:nvPr/>
          </p:nvSpPr>
          <p:spPr>
            <a:xfrm>
              <a:off x="457200" y="4559400"/>
              <a:ext cx="534456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Reader and Task – background knowledge of reader, motivation, interests, and complexity generated by tasks assign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4:38:41Z</dcterms:created>
  <dc:creator>Laura Slover</dc:creator>
  <dc:description/>
  <dc:language>en-US</dc:language>
  <cp:lastModifiedBy>JocelynS</cp:lastModifiedBy>
  <cp:lastPrinted>2010-02-24T23:39:36Z</cp:lastPrinted>
  <dcterms:modified xsi:type="dcterms:W3CDTF">2011-04-08T15:40:27Z</dcterms:modified>
  <cp:revision>605</cp:revision>
  <dc:subject/>
  <dc:title>Slide 1</dc:title>
</cp:coreProperties>
</file>